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5280" y="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1680" y="698040"/>
            <a:ext cx="46562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528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B2AF-7019-4C55-8E69-FA6479EA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C4FD-68CA-4D03-B63A-878CD9CC5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03480" y="698400"/>
            <a:ext cx="4655880" cy="3490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F04-B405-4C88-96D7-3BCE5FCD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A67-6FE6-4870-8772-717C5FC3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10E-5AA0-485E-AB83-7F5158B4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DCB-DB61-4CEE-83FF-C1A3FF80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DBB-F3F4-4C91-B5B9-65F51BF5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861-A03E-4E5B-BC95-71DC9F2E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613-00DD-41E7-8761-B6F47FF8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B63-0AAC-45A9-AE0F-A5540F5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F5B-5B75-44F1-A7CE-B44B7251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6E2-626F-4B33-BE57-C90A99C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BCB-D808-4CAF-B33F-D5E8C86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530-4098-43B4-A77A-47024E80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9EEF-B399-4FF0-A6C4-697969A2B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3"/>
          <p:cNvSpPr/>
          <p:nvPr/>
        </p:nvSpPr>
        <p:spPr>
          <a:xfrm>
            <a:off x="2540160" y="5068800"/>
            <a:ext cx="160020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/>
          <p:cNvSpPr/>
          <p:nvPr/>
        </p:nvSpPr>
        <p:spPr>
          <a:xfrm>
            <a:off x="1547640" y="2421000"/>
            <a:ext cx="16765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6012000" y="2781360"/>
            <a:ext cx="165708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5703840" y="4508640"/>
            <a:ext cx="16765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176720" y="5272200"/>
            <a:ext cx="167652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8"/>
          <p:cNvSpPr/>
          <p:nvPr/>
        </p:nvSpPr>
        <p:spPr>
          <a:xfrm>
            <a:off x="3564000" y="3672000"/>
            <a:ext cx="1676160" cy="1523880"/>
          </a:xfrm>
          <a:custGeom>
            <a:avLst/>
            <a:gdLst>
              <a:gd name="textAreaLeft" fmla="*/ 224280 w 1676160"/>
              <a:gd name="textAreaRight" fmla="*/ 1451880 w 167616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8101080" y="260280"/>
            <a:ext cx="79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KU-ER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6732720" y="6437160"/>
            <a:ext cx="22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วันที่ประเมิน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1"/>
          <p:cNvSpPr/>
          <p:nvPr/>
        </p:nvSpPr>
        <p:spPr>
          <a:xfrm>
            <a:off x="1257480" y="4076640"/>
            <a:ext cx="160020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2"/>
          <p:cNvSpPr/>
          <p:nvPr/>
        </p:nvSpPr>
        <p:spPr>
          <a:xfrm>
            <a:off x="3059280" y="1703520"/>
            <a:ext cx="16002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3"/>
          <p:cNvSpPr/>
          <p:nvPr/>
        </p:nvSpPr>
        <p:spPr>
          <a:xfrm>
            <a:off x="4716360" y="1830240"/>
            <a:ext cx="160020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1739880" y="258912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5"/>
          <p:cNvSpPr/>
          <p:nvPr/>
        </p:nvSpPr>
        <p:spPr>
          <a:xfrm>
            <a:off x="3303720" y="187632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6"/>
          <p:cNvSpPr/>
          <p:nvPr/>
        </p:nvSpPr>
        <p:spPr>
          <a:xfrm>
            <a:off x="6329520" y="288612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7"/>
          <p:cNvSpPr/>
          <p:nvPr/>
        </p:nvSpPr>
        <p:spPr>
          <a:xfrm>
            <a:off x="5003640" y="2017800"/>
            <a:ext cx="3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6033960" y="462744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9"/>
          <p:cNvSpPr/>
          <p:nvPr/>
        </p:nvSpPr>
        <p:spPr>
          <a:xfrm>
            <a:off x="4464000" y="5472000"/>
            <a:ext cx="4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0"/>
          <p:cNvSpPr/>
          <p:nvPr/>
        </p:nvSpPr>
        <p:spPr>
          <a:xfrm>
            <a:off x="2816280" y="518472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1"/>
          <p:cNvSpPr/>
          <p:nvPr/>
        </p:nvSpPr>
        <p:spPr>
          <a:xfrm>
            <a:off x="1619280" y="419580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2"/>
          <p:cNvSpPr/>
          <p:nvPr/>
        </p:nvSpPr>
        <p:spPr>
          <a:xfrm>
            <a:off x="826920" y="187200"/>
            <a:ext cx="719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700" spc="-1" strike="noStrike">
                <a:solidFill>
                  <a:srgbClr val="000000"/>
                </a:solidFill>
                <a:latin typeface="Angsana New"/>
              </a:rPr>
              <a:t>แผนภาพ   </a:t>
            </a:r>
            <a:r>
              <a:rPr b="1" lang="en-US" sz="2700" spc="-1" strike="noStrike">
                <a:solidFill>
                  <a:srgbClr val="000000"/>
                </a:solidFill>
                <a:latin typeface="Angsana New"/>
              </a:rPr>
              <a:t>KEY  PROCESS</a:t>
            </a:r>
            <a:br>
              <a:rPr sz="27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ส่วนงาน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น่วยงาน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..........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br>
              <a:rPr sz="18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ยุทธศาสตร์ที่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........................    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งาน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โครงการ 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วัตถุประสงค์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5:05:10Z</dcterms:created>
  <dc:creator>ICT IBM PC</dc:creator>
  <dc:description/>
  <dc:language>en-US</dc:language>
  <cp:lastModifiedBy>ocs</cp:lastModifiedBy>
  <cp:lastPrinted>2017-10-10T10:17:26Z</cp:lastPrinted>
  <dcterms:modified xsi:type="dcterms:W3CDTF">2017-10-10T10:17:31Z</dcterms:modified>
  <cp:revision>37</cp:revision>
  <dc:subject/>
  <dc:title>KEY  PROCESS</dc:title>
</cp:coreProperties>
</file>